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6E5-D01C-4CA8-9FEC-AA286A35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162-8164-4E30-9D33-B25E56E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A7E-CA07-4BF0-AB66-F0AEFD0B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30C-A231-40F3-99FA-B56981EB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6E36-B43D-4F86-9C55-7BAC69DA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E67-7405-48F5-9DCE-D29155B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3CE3-85B3-49D7-A852-8A86C9D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F9D-0514-4D61-9868-D75B91E3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C50B-935E-4F20-A1CC-F3E1FAE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D4F0-E43E-4C93-9625-28B9C59F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207-D7C2-494A-B7D7-462490F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0BD-973D-418A-A65D-2C42E120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2BA-FC2D-462C-829B-CA88C763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A6B-5578-4401-8C3B-D5DA2D5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D9B8-781D-47D9-A790-5604E6C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9291-30C5-463C-926D-BF0E9C86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99C2-04E2-4220-9C9D-9130D8F2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759-5CE2-4056-B3AD-E563B33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086-403A-481D-883A-D2FE068D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2B4-B333-4C78-A15F-CEA3977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042-E9B5-41F5-A6C2-5654BB09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9D8-73B4-4539-B31A-1D3DF505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91B-7DE4-4D6B-8F97-315B1A05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B2C-93AE-4588-B43C-723C8EC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DD2C-B976-45F5-926D-76C14CDD4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6BE2-AA9E-42F1-9E6D-13B9A8FE3D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бособленные обстоя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9640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овторе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стоятельство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торостепенный член предложения, который обозначает признак действия или другого призна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66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акими частями речи могут быть выражены обстоятельст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66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акие виды обстоятельств вам известн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6"/>
          <p:cNvSpPr/>
          <p:nvPr/>
        </p:nvSpPr>
        <p:spPr>
          <a:xfrm>
            <a:off x="0" y="0"/>
            <a:ext cx="6934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особленные обстоятель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огут быть выраже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3808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Одиночными деепричасти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шумев,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река успокоила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еепричастным оборо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богнув высокий мыс,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пароход вошел в зали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уществительными в косвенных падежах с предлог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смотря на поздний час,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было душ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991200" y="0"/>
            <a:ext cx="2152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4a"/>
                </a:solidFill>
                <a:latin typeface="BlinkMacSystemFont"/>
              </a:rPr>
              <a:t>Среди предложений 1-6 найдите предложение с обособленным обстоятельством. Напишите номер этого предложения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a4a"/>
                </a:solidFill>
                <a:latin typeface="BlinkMacSystemFont"/>
              </a:rPr>
              <a:t>(1)Рассвет выдался тусклый, скучный. (2)Всё было серым: и небо, и волны, набегающие на траулер. (3)Даже лица людей казались серыми, скуч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a4a"/>
                </a:solidFill>
                <a:latin typeface="BlinkMacSystemFont"/>
              </a:rPr>
              <a:t>(4)Гулко зарокотала лебёдка. (5)Грохот её, отражаясь в пустых трюмах, быстро нарастал. (6)Скоро он заглушил возгласы матросов, топот грубых рыбацких сапог и стук машины под палу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a4a"/>
                </a:solidFill>
                <a:latin typeface="BlinkMacSystemFont"/>
              </a:rPr>
              <a:t>(По Кубанскому Г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616880" cy="12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a4a"/>
                </a:solidFill>
                <a:latin typeface="BlinkMacSystemFont"/>
              </a:rPr>
              <a:t>Среди предложений 1-4 найдите предложение с обособленным обстоятельством. Напишите номер этого предложения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4a4a"/>
                </a:solidFill>
                <a:latin typeface="BlinkMacSystemFont"/>
              </a:rPr>
              <a:t>(1)Пришло тепло – весна брала своё. (2)Снег сошёл, обнажилась выложенная кирпичом дорожка, густо заросшая с боков сиренью и жасмином, ведущая от нас к развалинам помещичьего дома, по которой когда-то бегали поварята, доставлявшие к столу приготовленные с пылу с жару кушанья. (3)На пруду остался лишь островок обтаявшего льда, его током воды поднесло к водосливу мельничной плотины. (4)Показалась молодая нежная травка, раскрылись одуванчики, на берёзе возле своего домика заливался, прихлопывая крылышками, чёрный блестящий, отливающий зелёным скворец. (Чернышев В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Найти  предложения с ошибкой в употреблении деепричастного оборот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бирая номер междугороднего абонента, в трубке телефона раздались гуд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сняя происхождение географических названий, учитывается целый ряд факторов: время, ландшафт, история народ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тая этот рассказ Платонова, вспоминаются стихи Пушк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чиная работу с текстом, мной был неверно определён разме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одолевая барьер, наездником должны соблюдаться определённые прави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авить знаки препинания, подчеркнуть обособленные обстоятельст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 Странички желтые листая мы с грустью вспоминаем о было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Парни побросав игру обступили стари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Толстыми подошвами скрипя прошел проводни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 У этого дома подростком бродил я не чувствуя ног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 Крадучись Олег спустился с холм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6668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остовой взметая пыль шел грузовой автомоби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560" indent="-45756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рез сцену опираясь на палочку проходит Фир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560" indent="-45756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солнечной поляночке дугою выгнув бровь парнишка на тальяночке играет про любов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560" indent="-45756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шлось вчера отвечая на вопросы рассказать о свое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560" indent="-45756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тер усиливаясь гудел в уш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авить знаки препинания, подчеркнуть обособленные обстоятельст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сставить знаки препинания при обособленных членах предложения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абушка жила в мал…ньком имении доставш…мся Борису от матери. Оно состояло из (не) большой земли лежащей вплоть у города да двух домов одного каме(н,нн)ого оставле(н,нн)ого и запуше(н,нн)ого и деревя(н,нн)ого домика выстрое(н,нн)ого его отцом. В этом(то) домике и жила Татьяна Марковна с двумя внучками (сиротами) оатавле(н,нн)мией племянницей.С одной стороны дома в…днелась Волга с другой – широкие поля обработа(н,нн)ые и (не)вспаха(н,нн)ые все это замыкалось далью синевших г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2-04-21T14:05:0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