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40F-8C1C-432B-A1A2-E53E87A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200-975F-4B5C-9662-F96909E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005-23D4-450E-B529-152D3DDB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7D6-9C4C-47C9-B362-3E91E6C6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EB6-3FEF-4B9D-9439-63919664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4BC-0384-49D8-9900-34F49E44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F0EC-DFEB-4C5E-8B3D-B19E24A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88C1-CCAB-40EC-80C8-6A4E687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6D34-A549-4F64-B4E9-6696CFF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BD87-5438-432E-BB46-F1CFA55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8CA-333E-47CC-8F81-CC47F71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6FE-C4F7-4CEC-9457-2CD3454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8D96-463C-4DEF-9C72-F789895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EC1E-FE7D-4138-BE0E-04D8FA6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FC7-2912-4E6C-82FA-9A78F9C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A366-E1F6-44DE-BF87-17DC41DD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11CF-C21E-4FE8-B292-2CDEB8A9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5BCC-C7E5-461C-BC1B-1474A6C7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1842-530F-4A79-A0A8-E544EA4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0C69-560C-42A8-89C2-6DCE817D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209B-3188-4478-8085-B563EB7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6AD2-8CBE-4758-8827-936D859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0B7-60D2-4CEF-AF9B-798FDA4D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2128-F921-4FAE-87D9-C27677A7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2D80-DD3F-4ADB-A009-FC47DEB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071B-23D9-4D4F-A0D2-F76B958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41CC-5911-482A-BFFE-B64DAE5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F487-B55C-4491-9F56-72CA87F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CCB-B9EE-4145-9059-857E271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5339-DB3D-496E-AD36-BF961346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3D14-221D-4783-B2A9-F377FA8B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9C4B-C1EE-4FB8-8F4B-76E35EF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4F14-B486-4CC5-8D4E-B0028CF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D77-625E-4163-A3E3-F00FEA7F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7319-F406-413A-B386-C1AA1EB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5A17-11A7-472F-87EE-D9AEBCC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0725-9486-4A09-A58E-58397E9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F58D-7EC8-4682-ABE0-32F1459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5BA7-FD84-4D14-83B2-EFEC4A6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43F2-DD1A-4627-AA1A-264BA2A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9922-1923-4248-9F35-09A37A7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5B1A-9F39-46C5-BE3D-562B2602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0CE8-61B9-4F0F-93F7-9FDF7F88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8A250-2536-49BB-85CA-992A7D9F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80E-720C-4B43-83BC-EE2D468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7209-B051-4AD3-93EF-186D6AE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C798A-0752-4CB4-BDD6-24DE31F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1D39-F94B-4111-A809-C41DF1FB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C25B-0D2C-412A-A213-015033A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8A9D-488E-4A20-A06C-D155492D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A509-158A-482E-BBD0-D67A69E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44A9-D908-45E1-9819-C5688E3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3C3B-5829-4DC6-9648-6C47322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1B56-36CC-4BFA-B6F3-954E3B9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D188-A5EB-4DC1-B5E9-21F2199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57D-F2E9-40F3-8342-65A4D39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B1D3-5C27-4AFB-9128-F2E473E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355E-76A3-43F6-9715-B89B052B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1599-D46B-4979-8E8F-55E2F8DF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CC63-2FC7-4F88-9972-A6A0030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795F-D516-411F-BA47-AB46EE7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EA17-8088-4C49-BBC4-3F2A66F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A4BB-1E2E-4329-BBA6-574E2DA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4969-983C-4D53-BCDA-07631A0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C687-A085-449F-8CD9-34C9194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D07EE-EFEA-4792-8690-EAAD92B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E9F-47A2-4270-8C0B-AD7B32F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0704-038E-49E0-A9B1-523A4AC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129B-11F5-4CB1-91AC-61698A8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61EF-C687-4A7E-B561-386F247D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672E-3B9A-475E-9F72-30427B6A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3D09-6A74-4E34-A888-DD73658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AD14A-2834-4678-935B-35829D30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0CD25-0EA7-4E62-BF4E-F3E8ACF0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A40E-0C5E-4C95-895B-006CEC12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4000-EBF2-4626-BEF6-FEFA94AC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A504-5159-4885-93DE-72EA3D5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B7-2F11-4CD7-9BFD-04CB234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CAFEB-7FBD-4123-8942-2DB558C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561F-C78A-49CF-9FDA-02046F2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C618-4665-4561-ADA7-5E2714F5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FFC6-942D-4DC7-8519-2CD5AA62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AF4C5-350F-492E-A78E-67128482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6D5-6920-4DC2-B771-D158A58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7DE6-28F6-4AC3-88C4-A97518271E0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56F-6E8E-4EB5-A747-2615944E62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B4EE-B8FA-429B-AD5C-05EF13B6DC7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A5F4-7DFD-4D2C-A0B0-F910524D358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26C-8168-4E82-922C-DCFA14D8994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4FA-B582-4C11-A121-B591FF4645B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9F2E-EFC1-4698-B911-DB0095BD3F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539640" y="620640"/>
            <a:ext cx="842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 </a:t>
            </a:r>
            <a:r>
              <a:rPr b="1" i="1" lang="ru-RU" sz="6000" spc="-1" strike="noStrike">
                <a:solidFill>
                  <a:srgbClr val="c5f3ff"/>
                </a:solidFill>
                <a:latin typeface="Corbel"/>
              </a:rPr>
              <a:t>Обстоятельство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5f3ff"/>
                </a:solidFill>
                <a:latin typeface="Corbel"/>
              </a:rPr>
              <a:t>Виды </a:t>
            </a:r>
            <a:r>
              <a:rPr b="1" i="1" lang="ru-RU" sz="6000" spc="-1" strike="noStrike">
                <a:solidFill>
                  <a:srgbClr val="c5f3ff"/>
                </a:solidFill>
                <a:latin typeface="Arial"/>
              </a:rPr>
              <a:t>(разряды)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5f3ff"/>
                </a:solidFill>
                <a:latin typeface="Corbel"/>
              </a:rPr>
              <a:t>обстоятельств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Подзаголовок 2"/>
          <p:cNvGrpSpPr/>
          <p:nvPr/>
        </p:nvGrpSpPr>
        <p:grpSpPr>
          <a:xfrm>
            <a:off x="426960" y="146160"/>
            <a:ext cx="8656560" cy="1139760"/>
            <a:chOff x="426960" y="146160"/>
            <a:chExt cx="8656560" cy="1139760"/>
          </a:xfrm>
        </p:grpSpPr>
        <p:pic>
          <p:nvPicPr>
            <p:cNvPr id="422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426960" y="146160"/>
              <a:ext cx="8656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76360" y="260280"/>
              <a:ext cx="835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ffffff"/>
                  </a:solidFill>
                  <a:latin typeface="Cambria Math"/>
                </a:rPr>
                <a:t>СПОСОБЫ ВЫРАЖЕНИЯ ОБСТОЯТЕЛЬСТВА:</a:t>
              </a:r>
              <a:endParaRPr b="0" lang="en-US" sz="3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24" name="Содержимое 2"/>
          <p:cNvGrpSpPr/>
          <p:nvPr/>
        </p:nvGrpSpPr>
        <p:grpSpPr>
          <a:xfrm>
            <a:off x="426960" y="1152360"/>
            <a:ext cx="8972640" cy="5881680"/>
            <a:chOff x="426960" y="1152360"/>
            <a:chExt cx="8972640" cy="5881680"/>
          </a:xfrm>
        </p:grpSpPr>
        <p:pic>
          <p:nvPicPr>
            <p:cNvPr id="4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26960" y="1152360"/>
              <a:ext cx="8972640" cy="58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68360" y="1197000"/>
              <a:ext cx="856764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539640" y="1197000"/>
          <a:ext cx="8353440" cy="5145120"/>
        </p:xfrm>
        <a:graphic>
          <a:graphicData uri="http://schemas.openxmlformats.org/drawingml/2006/table">
            <a:tbl>
              <a:tblPr/>
              <a:tblGrid>
                <a:gridCol w="6048360"/>
                <a:gridCol w="230508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0105c"/>
                          </a:solidFill>
                          <a:latin typeface="Corbe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0105c"/>
                          </a:solidFill>
                          <a:latin typeface="Corbel"/>
                        </a:rPr>
                        <a:t>Способы выражения  обстоятель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1. 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Звонко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кукушка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вдали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куковала. 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	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2.  Она изменилась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до неузнаваемости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и/с  с пр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3. Он работал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не покладая рук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фразеол. обор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4. Бегут,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играя на солнце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, шумные ручь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дееприч. обор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5.  Я приехал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повидать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теб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инфини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6.  Пруд местами,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как сталь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, сверкал на солнц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сравнительный о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7.  И звуки полетят, </a:t>
                      </a:r>
                      <a:r>
                        <a:rPr b="1" lang="ru-RU" sz="2200" spc="-1" strike="noStrike" u="sng">
                          <a:solidFill>
                            <a:srgbClr val="002060"/>
                          </a:solidFill>
                          <a:uFillTx/>
                          <a:latin typeface="Corbel"/>
                        </a:rPr>
                        <a:t>красуясь и играя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38677"/>
                          </a:solidFill>
                          <a:latin typeface="Corbel"/>
                        </a:rPr>
                        <a:t>деепричас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Подзаголовок 2"/>
          <p:cNvGrpSpPr/>
          <p:nvPr/>
        </p:nvGrpSpPr>
        <p:grpSpPr>
          <a:xfrm>
            <a:off x="493560" y="-23760"/>
            <a:ext cx="8517240" cy="1187280"/>
            <a:chOff x="493560" y="-23760"/>
            <a:chExt cx="8517240" cy="1187280"/>
          </a:xfrm>
        </p:grpSpPr>
        <p:pic>
          <p:nvPicPr>
            <p:cNvPr id="42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493560" y="-23760"/>
              <a:ext cx="851724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576360" y="115920"/>
              <a:ext cx="835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orbel"/>
                </a:rPr>
                <a:t>Основные группы обстоятельств:</a:t>
              </a:r>
              <a:br>
                <a:rPr sz="4000"/>
              </a:b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31" name="Содержимое 2"/>
          <p:cNvGrpSpPr/>
          <p:nvPr/>
        </p:nvGrpSpPr>
        <p:grpSpPr>
          <a:xfrm>
            <a:off x="426960" y="938160"/>
            <a:ext cx="8832960" cy="6095880"/>
            <a:chOff x="426960" y="938160"/>
            <a:chExt cx="8832960" cy="6095880"/>
          </a:xfrm>
        </p:grpSpPr>
        <p:pic>
          <p:nvPicPr>
            <p:cNvPr id="43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26960" y="938160"/>
              <a:ext cx="883296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68360" y="981000"/>
              <a:ext cx="8424720" cy="56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468360" y="1011240"/>
          <a:ext cx="8424720" cy="5657760"/>
        </p:xfrm>
        <a:graphic>
          <a:graphicData uri="http://schemas.openxmlformats.org/drawingml/2006/table">
            <a:tbl>
              <a:tblPr/>
              <a:tblGrid>
                <a:gridCol w="2978280"/>
                <a:gridCol w="54464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образа действия или степ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как? каким образом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какой степени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5a50"/>
                          </a:solidFill>
                          <a:latin typeface="Corbel"/>
                        </a:rPr>
                        <a:t>ме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d5a50"/>
                          </a:solidFill>
                          <a:latin typeface="Corbel"/>
                        </a:rPr>
                        <a:t>где? куда? откуда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врем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когда? как долго?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с каких пор? до каких пор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Corbel"/>
                        </a:rPr>
                        <a:t>усло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435faa"/>
                          </a:solidFill>
                          <a:latin typeface="Corbel"/>
                        </a:rPr>
                        <a:t>при каком условии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fa326"/>
                          </a:solidFill>
                          <a:latin typeface="Corbe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5fa326"/>
                          </a:solidFill>
                          <a:latin typeface="Corbel"/>
                        </a:rPr>
                        <a:t>почему? отчего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уступ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вопреки чему?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несмотря на что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ц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зачем? для чего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Заголовок 1"/>
          <p:cNvGrpSpPr/>
          <p:nvPr/>
        </p:nvGrpSpPr>
        <p:grpSpPr>
          <a:xfrm>
            <a:off x="901800" y="212760"/>
            <a:ext cx="7797600" cy="1433520"/>
            <a:chOff x="901800" y="212760"/>
            <a:chExt cx="7797600" cy="1433520"/>
          </a:xfrm>
        </p:grpSpPr>
        <p:pic>
          <p:nvPicPr>
            <p:cNvPr id="43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1800" y="212760"/>
              <a:ext cx="77976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914400" y="228600"/>
              <a:ext cx="777240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c3f71"/>
                  </a:solidFill>
                  <a:latin typeface="Monotype Corsiva"/>
                </a:rPr>
                <a:t>Назовите предложения, в которых есть обстоятельства времени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38" name="Содержимое 2"/>
          <p:cNvGrpSpPr/>
          <p:nvPr/>
        </p:nvGrpSpPr>
        <p:grpSpPr>
          <a:xfrm>
            <a:off x="725400" y="1620720"/>
            <a:ext cx="8326440" cy="5104080"/>
            <a:chOff x="725400" y="1620720"/>
            <a:chExt cx="8326440" cy="5104080"/>
          </a:xfrm>
        </p:grpSpPr>
        <p:pic>
          <p:nvPicPr>
            <p:cNvPr id="43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25400" y="1620720"/>
              <a:ext cx="8326440" cy="51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914400" y="1773360"/>
              <a:ext cx="777240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1. Мы очень устали.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2. Кругом кричали коростели.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3. Вчера я приехал в Тамбов.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4. Он изменился до   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     </a:t>
              </a: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неузнаваемости.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Заголовок 1"/>
          <p:cNvGrpSpPr/>
          <p:nvPr/>
        </p:nvGrpSpPr>
        <p:grpSpPr>
          <a:xfrm>
            <a:off x="901800" y="212760"/>
            <a:ext cx="7797600" cy="1360440"/>
            <a:chOff x="901800" y="212760"/>
            <a:chExt cx="7797600" cy="1360440"/>
          </a:xfrm>
        </p:grpSpPr>
        <p:pic>
          <p:nvPicPr>
            <p:cNvPr id="4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1800" y="212760"/>
              <a:ext cx="77976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914400" y="228600"/>
              <a:ext cx="777240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c3f71"/>
                  </a:solidFill>
                  <a:latin typeface="Monotype Corsiva"/>
                </a:rPr>
                <a:t>Назовите предложения, в которых есть обстоятельства  места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44" name="Содержимое 2"/>
          <p:cNvGrpSpPr/>
          <p:nvPr/>
        </p:nvGrpSpPr>
        <p:grpSpPr>
          <a:xfrm>
            <a:off x="781200" y="1646280"/>
            <a:ext cx="8259480" cy="5248080"/>
            <a:chOff x="781200" y="1646280"/>
            <a:chExt cx="8259480" cy="5248080"/>
          </a:xfrm>
        </p:grpSpPr>
        <p:pic>
          <p:nvPicPr>
            <p:cNvPr id="44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81200" y="1646280"/>
              <a:ext cx="8259480" cy="52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900000" y="1773360"/>
              <a:ext cx="7772400" cy="47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Corbel"/>
                </a:rPr>
                <a:t>1) </a:t>
              </a:r>
              <a:r>
                <a:rPr b="1" lang="ru-RU" sz="3000" spc="-1" strike="noStrike">
                  <a:solidFill>
                    <a:srgbClr val="2c3f71"/>
                  </a:solidFill>
                  <a:latin typeface="Times New Roman"/>
                  <a:ea typeface="Times New Roman"/>
                </a:rPr>
                <a:t>До рассвета мы шёпотом беседуем про орлов.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) </a:t>
              </a:r>
              <a:r>
                <a:rPr b="1" lang="ru-RU" sz="3000" spc="-1" strike="noStrike">
                  <a:solidFill>
                    <a:srgbClr val="2c3f71"/>
                  </a:solidFill>
                  <a:latin typeface="Times New Roman"/>
                  <a:ea typeface="Times New Roman"/>
                </a:rPr>
                <a:t>Звонкий месяц выйдет скоро погулять по крышам хат.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) </a:t>
              </a:r>
              <a:r>
                <a:rPr b="1" lang="ru-RU" sz="3000" spc="-1" strike="noStrike">
                  <a:solidFill>
                    <a:srgbClr val="2c3f71"/>
                  </a:solidFill>
                  <a:latin typeface="Times New Roman"/>
                  <a:ea typeface="Times New Roman"/>
                </a:rPr>
                <a:t>Вихрем пыль летит.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) </a:t>
              </a:r>
              <a:r>
                <a:rPr b="1" lang="ru-RU" sz="3000" spc="-1" strike="noStrike">
                  <a:solidFill>
                    <a:srgbClr val="2c3f71"/>
                  </a:solidFill>
                  <a:latin typeface="Times New Roman"/>
                  <a:ea typeface="Times New Roman"/>
                </a:rPr>
                <a:t>Природа действовала на меня чрезвычайно.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) </a:t>
              </a:r>
              <a:r>
                <a:rPr b="1" lang="ru-RU" sz="3000" spc="-1" strike="noStrike">
                  <a:solidFill>
                    <a:srgbClr val="2c3f71"/>
                  </a:solidFill>
                  <a:latin typeface="Times New Roman"/>
                  <a:ea typeface="Times New Roman"/>
                </a:rPr>
                <a:t>Стена вниз обрушилась.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Заголовок 1"/>
          <p:cNvGrpSpPr/>
          <p:nvPr/>
        </p:nvGrpSpPr>
        <p:grpSpPr>
          <a:xfrm>
            <a:off x="596880" y="103320"/>
            <a:ext cx="8309160" cy="1427040"/>
            <a:chOff x="596880" y="103320"/>
            <a:chExt cx="8309160" cy="1427040"/>
          </a:xfrm>
        </p:grpSpPr>
        <p:pic>
          <p:nvPicPr>
            <p:cNvPr id="4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96880" y="103320"/>
              <a:ext cx="83091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611280" y="115920"/>
              <a:ext cx="828180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c3f71"/>
                  </a:solidFill>
                  <a:latin typeface="Monotype Corsiva"/>
                </a:rPr>
                <a:t>Назовите  предложения, в которых   есть обстоятельства  цели: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50" name="Содержимое 2"/>
          <p:cNvGrpSpPr/>
          <p:nvPr/>
        </p:nvGrpSpPr>
        <p:grpSpPr>
          <a:xfrm>
            <a:off x="334800" y="1420920"/>
            <a:ext cx="8998200" cy="5108400"/>
            <a:chOff x="334800" y="1420920"/>
            <a:chExt cx="8998200" cy="5108400"/>
          </a:xfrm>
        </p:grpSpPr>
        <p:pic>
          <p:nvPicPr>
            <p:cNvPr id="45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34800" y="1420920"/>
              <a:ext cx="89982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68360" y="1628640"/>
              <a:ext cx="84247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3f75"/>
                  </a:solidFill>
                  <a:latin typeface="Corbel"/>
                </a:rPr>
                <a:t>1.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Душно стало в сакле, и я вышел на воздух 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  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освежиться.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f75"/>
                  </a:solidFill>
                  <a:latin typeface="Corbel"/>
                </a:rPr>
                <a:t>2.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Слон-живописец написал пейзаж,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Но раньше, чем послать его на вернисаж,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Он пригласил друзей взглянуть на    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полотно.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f75"/>
                  </a:solidFill>
                  <a:latin typeface="Corbel"/>
                </a:rPr>
                <a:t>3.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Сенокос запоздал из-за дождей.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f75"/>
                  </a:solidFill>
                  <a:latin typeface="Corbel"/>
                </a:rPr>
                <a:t>4.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От мороза побелели деревья, лошади, 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бороды.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Заголовок 1"/>
          <p:cNvGrpSpPr/>
          <p:nvPr/>
        </p:nvGrpSpPr>
        <p:grpSpPr>
          <a:xfrm>
            <a:off x="523800" y="212760"/>
            <a:ext cx="8528040" cy="1360440"/>
            <a:chOff x="523800" y="212760"/>
            <a:chExt cx="8528040" cy="1360440"/>
          </a:xfrm>
        </p:grpSpPr>
        <p:pic>
          <p:nvPicPr>
            <p:cNvPr id="4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23800" y="212760"/>
              <a:ext cx="852804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539640" y="228600"/>
              <a:ext cx="849636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c3f71"/>
                  </a:solidFill>
                  <a:latin typeface="Monotype Corsiva"/>
                </a:rPr>
                <a:t>Назовите предложения, в которых  есть обстоятельства , выраженные фразеологизмом:</a:t>
              </a:r>
              <a:endParaRPr b="0" lang="en-US" sz="36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56" name="Содержимое 2"/>
          <p:cNvGrpSpPr/>
          <p:nvPr/>
        </p:nvGrpSpPr>
        <p:grpSpPr>
          <a:xfrm>
            <a:off x="311040" y="1627200"/>
            <a:ext cx="9150480" cy="5370480"/>
            <a:chOff x="311040" y="1627200"/>
            <a:chExt cx="9150480" cy="5370480"/>
          </a:xfrm>
        </p:grpSpPr>
        <p:pic>
          <p:nvPicPr>
            <p:cNvPr id="4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11040" y="1627200"/>
              <a:ext cx="915048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68360" y="1773360"/>
              <a:ext cx="8567640" cy="47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8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 </a:t>
              </a:r>
              <a:r>
                <a:rPr b="1" i="1" lang="ru-RU" sz="3500" spc="-1" strike="noStrike">
                  <a:solidFill>
                    <a:srgbClr val="003f75"/>
                  </a:solidFill>
                  <a:latin typeface="Corbel"/>
                </a:rPr>
                <a:t>Приказчик остался с глазу на глаз с покупательницей.</a:t>
              </a:r>
              <a:endParaRPr b="0" lang="en-US" sz="35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. </a:t>
              </a:r>
              <a:r>
                <a:rPr b="1" i="1" lang="ru-RU" sz="3500" spc="-1" strike="noStrike">
                  <a:solidFill>
                    <a:srgbClr val="003f75"/>
                  </a:solidFill>
                  <a:latin typeface="Corbel"/>
                </a:rPr>
                <a:t>Казалось, что какие-то узы крови связывают этого босяка со Стенькой</a:t>
              </a:r>
              <a:endParaRPr b="0" lang="en-US" sz="35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. </a:t>
              </a:r>
              <a:r>
                <a:rPr b="1" i="1" lang="ru-RU" sz="3500" spc="-1" strike="noStrike">
                  <a:solidFill>
                    <a:srgbClr val="003f75"/>
                  </a:solidFill>
                  <a:latin typeface="Corbel"/>
                </a:rPr>
                <a:t>Рассказы эти были данью моему детству </a:t>
              </a:r>
              <a:endParaRPr b="0" lang="en-US" sz="35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. </a:t>
              </a:r>
              <a:r>
                <a:rPr b="1" i="1" lang="ru-RU" sz="3500" spc="-1" strike="noStrike">
                  <a:solidFill>
                    <a:srgbClr val="003f75"/>
                  </a:solidFill>
                  <a:latin typeface="Corbel"/>
                </a:rPr>
                <a:t>Олег в тот день проснулся ни свет ни заря.</a:t>
              </a:r>
              <a:endParaRPr b="0" lang="en-US" sz="35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Заголовок 1"/>
          <p:cNvGrpSpPr/>
          <p:nvPr/>
        </p:nvGrpSpPr>
        <p:grpSpPr>
          <a:xfrm>
            <a:off x="596880" y="171360"/>
            <a:ext cx="8454960" cy="1548000"/>
            <a:chOff x="596880" y="171360"/>
            <a:chExt cx="8454960" cy="1548000"/>
          </a:xfrm>
        </p:grpSpPr>
        <p:pic>
          <p:nvPicPr>
            <p:cNvPr id="4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96880" y="171360"/>
              <a:ext cx="84549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11280" y="189000"/>
              <a:ext cx="84247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c3f71"/>
                  </a:solidFill>
                  <a:latin typeface="Monotype Corsiva"/>
                </a:rPr>
                <a:t>Назовите  предложения, в которых есть обстоятельства , выраженные сравнительным оборотом: </a:t>
              </a:r>
              <a:endParaRPr b="0" lang="en-US" sz="32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62" name="Содержимое 2"/>
          <p:cNvGrpSpPr/>
          <p:nvPr/>
        </p:nvGrpSpPr>
        <p:grpSpPr>
          <a:xfrm>
            <a:off x="450720" y="1639800"/>
            <a:ext cx="8948880" cy="5480280"/>
            <a:chOff x="450720" y="1639800"/>
            <a:chExt cx="8948880" cy="5480280"/>
          </a:xfrm>
        </p:grpSpPr>
        <p:pic>
          <p:nvPicPr>
            <p:cNvPr id="46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639800"/>
              <a:ext cx="8948880" cy="54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11280" y="1773360"/>
              <a:ext cx="8424720" cy="47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192f"/>
                  </a:solidFill>
                  <a:latin typeface="Corbel"/>
                </a:rPr>
                <a:t>1. 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orbel"/>
                </a:rPr>
                <a:t>Чайка, как парус, белеет где-то в высоте.</a:t>
              </a:r>
              <a:endParaRPr b="0" lang="en-US" sz="36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192f"/>
                  </a:solidFill>
                  <a:latin typeface="Corbel"/>
                </a:rPr>
                <a:t>2. 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orbel"/>
                </a:rPr>
                <a:t>Прилетев на место, гуси шумно опускаются на воду.</a:t>
              </a:r>
              <a:endParaRPr b="0" lang="en-US" sz="36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192f"/>
                  </a:solidFill>
                  <a:latin typeface="Corbel"/>
                </a:rPr>
                <a:t>3. 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orbel"/>
                </a:rPr>
                <a:t>Прилетев на место, гуси шумно опускаются на воду.</a:t>
              </a:r>
              <a:endParaRPr b="0" lang="en-US" sz="3600" spc="-1" strike="noStrike">
                <a:solidFill>
                  <a:srgbClr val="ffffff"/>
                </a:solidFill>
                <a:latin typeface="Corbel"/>
              </a:endParaRPr>
            </a:p>
            <a:p>
              <a:pPr marL="684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192f"/>
                  </a:solidFill>
                  <a:latin typeface="Corbel"/>
                </a:rPr>
                <a:t>4. 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orbel"/>
                </a:rPr>
                <a:t>Внизу, как зеркало стальное, синеют озера струи.</a:t>
              </a:r>
              <a:endParaRPr b="0" lang="en-US" sz="36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66" name="Подзаголовок 2"/>
          <p:cNvGrpSpPr/>
          <p:nvPr/>
        </p:nvGrpSpPr>
        <p:grpSpPr>
          <a:xfrm>
            <a:off x="785880" y="-146160"/>
            <a:ext cx="7931160" cy="1292400"/>
            <a:chOff x="785880" y="-146160"/>
            <a:chExt cx="7931160" cy="1292400"/>
          </a:xfrm>
        </p:grpSpPr>
        <p:pic>
          <p:nvPicPr>
            <p:cNvPr id="46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85880" y="-146160"/>
              <a:ext cx="79311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865080" y="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rbel"/>
                </a:rPr>
                <a:t>Конструирование текста: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69" name="Содержимое 2"/>
          <p:cNvGrpSpPr/>
          <p:nvPr/>
        </p:nvGrpSpPr>
        <p:grpSpPr>
          <a:xfrm>
            <a:off x="396720" y="963720"/>
            <a:ext cx="9002880" cy="5997600"/>
            <a:chOff x="396720" y="963720"/>
            <a:chExt cx="9002880" cy="5997600"/>
          </a:xfrm>
        </p:grpSpPr>
        <p:pic>
          <p:nvPicPr>
            <p:cNvPr id="47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96720" y="963720"/>
              <a:ext cx="9002880" cy="59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68360" y="1052640"/>
              <a:ext cx="856764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1) Утром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и/с с предлогом, обстоят-во места) 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появились орлы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2)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деепр. оборот, обстоят-во образа действия)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, они поднялись с земли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3) Орлы начали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наречие, обст-во образа действия) 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выписывать в раздольном поднебесье огромные круги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4)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и/с с предлогом, обст-во времени)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 они попарно опустились на землю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5) Одна пара,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деепр-е, обст-во образа действия), 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шумно снизились на проталине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6) Крупные и красивые птицы некоторое время зорко, </a:t>
              </a:r>
              <a:r>
                <a:rPr b="0" lang="ru-RU" sz="2400" spc="-1" strike="noStrike">
                  <a:solidFill>
                    <a:srgbClr val="00192f"/>
                  </a:solidFill>
                  <a:latin typeface="Corbel"/>
                </a:rPr>
                <a:t>…(сравн. оборот, обст-во образа действия), </a:t>
              </a:r>
              <a:r>
                <a:rPr b="1" lang="ru-RU" sz="2400" spc="-1" strike="noStrike">
                  <a:solidFill>
                    <a:srgbClr val="00192f"/>
                  </a:solidFill>
                  <a:latin typeface="Corbel"/>
                </a:rPr>
                <a:t>осматривались вокруг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70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371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3" name="Содержимое 2"/>
          <p:cNvGrpSpPr/>
          <p:nvPr/>
        </p:nvGrpSpPr>
        <p:grpSpPr>
          <a:xfrm>
            <a:off x="871560" y="1560600"/>
            <a:ext cx="8180280" cy="5164200"/>
            <a:chOff x="871560" y="1560600"/>
            <a:chExt cx="8180280" cy="5164200"/>
          </a:xfrm>
        </p:grpSpPr>
        <p:pic>
          <p:nvPicPr>
            <p:cNvPr id="37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871560" y="1560600"/>
              <a:ext cx="818028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	</a:t>
              </a: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Особый вид определения, выраженный существительным</a:t>
              </a:r>
              <a:r>
                <a:rPr b="1" lang="ru-RU" sz="4000" spc="-1" strike="noStrike">
                  <a:solidFill>
                    <a:srgbClr val="0d5a50"/>
                  </a:solidFill>
                  <a:latin typeface="Corbel"/>
                </a:rPr>
                <a:t>,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77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378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80" name="Содержимое 2"/>
          <p:cNvGrpSpPr/>
          <p:nvPr/>
        </p:nvGrpSpPr>
        <p:grpSpPr>
          <a:xfrm>
            <a:off x="762120" y="1560600"/>
            <a:ext cx="8289720" cy="5164200"/>
            <a:chOff x="762120" y="1560600"/>
            <a:chExt cx="8289720" cy="5164200"/>
          </a:xfrm>
        </p:grpSpPr>
        <p:pic>
          <p:nvPicPr>
            <p:cNvPr id="38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28972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Главный член предложения, отвечающий на вопрос 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“</a:t>
              </a: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что есть такое?”,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84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385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87" name="Содержимое 2"/>
          <p:cNvGrpSpPr/>
          <p:nvPr/>
        </p:nvGrpSpPr>
        <p:grpSpPr>
          <a:xfrm>
            <a:off x="762120" y="1560600"/>
            <a:ext cx="8332560" cy="5164200"/>
            <a:chOff x="762120" y="1560600"/>
            <a:chExt cx="8332560" cy="5164200"/>
          </a:xfrm>
        </p:grpSpPr>
        <p:pic>
          <p:nvPicPr>
            <p:cNvPr id="38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33256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И/с в Им.п. может быть подлежащим, приложением и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91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392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94" name="Содержимое 2"/>
          <p:cNvGrpSpPr/>
          <p:nvPr/>
        </p:nvGrpSpPr>
        <p:grpSpPr>
          <a:xfrm>
            <a:off x="762120" y="1560600"/>
            <a:ext cx="8400960" cy="5164200"/>
            <a:chOff x="762120" y="1560600"/>
            <a:chExt cx="8400960" cy="5164200"/>
          </a:xfrm>
        </p:grpSpPr>
        <p:pic>
          <p:nvPicPr>
            <p:cNvPr id="39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40096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В предложении  </a:t>
              </a: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В классе тихо,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слово “тихо”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98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39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1" name="Содержимое 2"/>
          <p:cNvGrpSpPr/>
          <p:nvPr/>
        </p:nvGrpSpPr>
        <p:grpSpPr>
          <a:xfrm>
            <a:off x="762120" y="1560600"/>
            <a:ext cx="8540640" cy="5164200"/>
            <a:chOff x="762120" y="1560600"/>
            <a:chExt cx="8540640" cy="5164200"/>
          </a:xfrm>
        </p:grpSpPr>
        <p:pic>
          <p:nvPicPr>
            <p:cNvPr id="40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54064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Член предложения, отвечающий на вопрос </a:t>
              </a: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“чей?”</a:t>
              </a: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,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05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406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8" name="Содержимое 2"/>
          <p:cNvGrpSpPr/>
          <p:nvPr/>
        </p:nvGrpSpPr>
        <p:grpSpPr>
          <a:xfrm>
            <a:off x="762120" y="1560600"/>
            <a:ext cx="8289720" cy="5164200"/>
            <a:chOff x="762120" y="1560600"/>
            <a:chExt cx="8289720" cy="5164200"/>
          </a:xfrm>
        </p:grpSpPr>
        <p:pic>
          <p:nvPicPr>
            <p:cNvPr id="40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28972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Определение, связанное с и/с по способу </a:t>
              </a:r>
              <a:r>
                <a:rPr b="1" i="1" lang="ru-RU" sz="4000" spc="-1" strike="noStrike">
                  <a:solidFill>
                    <a:srgbClr val="c00000"/>
                  </a:solidFill>
                  <a:latin typeface="Corbel"/>
                </a:rPr>
                <a:t>управления или примыкания,</a:t>
              </a: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12" name="Подзаголовок 2"/>
          <p:cNvGrpSpPr/>
          <p:nvPr/>
        </p:nvGrpSpPr>
        <p:grpSpPr>
          <a:xfrm>
            <a:off x="706320" y="360360"/>
            <a:ext cx="8182080" cy="1292400"/>
            <a:chOff x="706320" y="360360"/>
            <a:chExt cx="8182080" cy="1292400"/>
          </a:xfrm>
        </p:grpSpPr>
        <p:pic>
          <p:nvPicPr>
            <p:cNvPr id="413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360360"/>
              <a:ext cx="8182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914400" y="512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mbria Math"/>
                </a:rPr>
                <a:t>СИНТАКСИЧЕСКАЯ РАЗМИНКА</a:t>
              </a:r>
              <a:endParaRPr b="0" lang="en-US" sz="4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15" name="Содержимое 2"/>
          <p:cNvGrpSpPr/>
          <p:nvPr/>
        </p:nvGrpSpPr>
        <p:grpSpPr>
          <a:xfrm>
            <a:off x="762120" y="1560600"/>
            <a:ext cx="8289720" cy="5164200"/>
            <a:chOff x="762120" y="1560600"/>
            <a:chExt cx="8289720" cy="5164200"/>
          </a:xfrm>
        </p:grpSpPr>
        <p:pic>
          <p:nvPicPr>
            <p:cNvPr id="41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62120" y="1560600"/>
              <a:ext cx="828972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914400" y="1600200"/>
              <a:ext cx="777240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1120" indent="-3427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0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spcBef>
                  <a:spcPts val="700"/>
                </a:spcBef>
                <a:buClr>
                  <a:srgbClr val="d6ec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d5a50"/>
                  </a:solidFill>
                  <a:latin typeface="Corbel"/>
                </a:rPr>
                <a:t>Член предложения, поясняющий, при каких обстоятельствах совершается действие, – …</a:t>
              </a:r>
              <a:endParaRPr b="0" lang="en-US" sz="4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  <a:p>
              <a:pPr marL="411120" indent="-3427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Подзаголовок 2"/>
          <p:cNvGrpSpPr/>
          <p:nvPr/>
        </p:nvGrpSpPr>
        <p:grpSpPr>
          <a:xfrm>
            <a:off x="706320" y="2236680"/>
            <a:ext cx="8199720" cy="2127240"/>
            <a:chOff x="706320" y="2236680"/>
            <a:chExt cx="8199720" cy="2127240"/>
          </a:xfrm>
        </p:grpSpPr>
        <p:pic>
          <p:nvPicPr>
            <p:cNvPr id="41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2236680"/>
              <a:ext cx="819972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914400" y="2286000"/>
              <a:ext cx="77724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ambria Math"/>
                </a:rPr>
                <a:t>ОБСТОЯТЕЛЬСТВО</a:t>
              </a:r>
              <a:endParaRPr b="0" lang="en-US" sz="66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7:33:04Z</dcterms:created>
  <dc:creator>Admin</dc:creator>
  <dc:description/>
  <dc:language>en-US</dc:language>
  <cp:lastModifiedBy>1</cp:lastModifiedBy>
  <dcterms:modified xsi:type="dcterms:W3CDTF">2022-01-16T09:44:22Z</dcterms:modified>
  <cp:revision>9</cp:revision>
  <dc:subject/>
  <dc:title>СИНТАКСИЧЕСКАЯ РАЗМИНКА</dc:title>
</cp:coreProperties>
</file>